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A16-0952-4CEF-BA71-F2D9F3DE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830-357C-418D-BD50-3B87AD74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C98-A1B5-4F22-8A2F-6AC8E238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48F-CCEB-4C89-9828-4BDC6420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7B9-346F-4A1A-8FFA-E1871501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D1B-646B-4AE8-94BF-16052481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3A7-798D-415E-8AA6-4BCD1A70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93F-B813-47BB-9FDB-294D234A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C1D-6F90-474E-8015-78411C2D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A4D-2846-4598-9870-C55E056C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668-5AD4-42AD-9B9A-C8E5130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E68-C478-4C1B-9620-3AC1E1D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EE3-5454-4F3F-935C-83DD1240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2057400"/>
            <a:ext cx="6552000" cy="884160"/>
            <a:chOff x="838080" y="2057400"/>
            <a:chExt cx="6552000" cy="884160"/>
          </a:xfrm>
        </p:grpSpPr>
        <p:sp>
          <p:nvSpPr>
            <p:cNvPr id="42" name=""/>
            <p:cNvSpPr/>
            <p:nvPr/>
          </p:nvSpPr>
          <p:spPr>
            <a:xfrm>
              <a:off x="2435400" y="2507040"/>
              <a:ext cx="9612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2302920"/>
              <a:ext cx="1376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03400" y="2317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11000" y="26262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25320" y="2190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687360" y="27244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28760" y="2302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28760" y="2542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25320" y="24296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33560" y="2527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12080" y="2057400"/>
              <a:ext cx="12780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68040" y="235224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68040" y="264708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22560" y="24404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72840" y="264708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0960" y="2204640"/>
              <a:ext cx="14742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87480" y="27000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99160" y="2674440"/>
              <a:ext cx="98280" cy="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87480" y="22539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780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500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52080" y="21556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360320" y="2450520"/>
              <a:ext cx="1965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13040" y="244440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654440" y="2251800"/>
              <a:ext cx="196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972480" y="2292840"/>
              <a:ext cx="136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821280" y="2374560"/>
              <a:ext cx="1245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597000" y="2374560"/>
              <a:ext cx="33408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28240" y="2487600"/>
              <a:ext cx="3880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806520" y="2514240"/>
              <a:ext cx="1512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778080" y="2514240"/>
              <a:ext cx="1944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01280" y="2514240"/>
              <a:ext cx="4104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820920" y="2249640"/>
              <a:ext cx="1098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571440" y="2223360"/>
              <a:ext cx="34488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13480" y="240408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542640" y="2374560"/>
              <a:ext cx="20844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28240" y="2583720"/>
              <a:ext cx="16668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763680" y="2723400"/>
              <a:ext cx="2494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13880" y="2264400"/>
              <a:ext cx="95400" cy="374400"/>
            </a:xfrm>
            <a:custGeom>
              <a:avLst/>
              <a:gdLst/>
              <a:ahLst/>
              <a:rect l="l" t="t" r="r" b="b"/>
              <a:pathLst>
                <a:path w="47" h="183">
                  <a:moveTo>
                    <a:pt x="34" y="183"/>
                  </a:moveTo>
                  <a:cubicBezTo>
                    <a:pt x="40" y="147"/>
                    <a:pt x="47" y="111"/>
                    <a:pt x="41" y="81"/>
                  </a:cubicBezTo>
                  <a:cubicBezTo>
                    <a:pt x="35" y="51"/>
                    <a:pt x="7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556320" y="2597400"/>
              <a:ext cx="23580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751080" y="2638800"/>
              <a:ext cx="262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6520" y="2610360"/>
              <a:ext cx="2210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78080" y="240408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351880" y="2362680"/>
              <a:ext cx="81360" cy="1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503440" y="2404080"/>
              <a:ext cx="19440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3440" y="2583720"/>
              <a:ext cx="165960" cy="10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0840" y="23990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1:48:33Z</dcterms:created>
  <dc:creator>william</dc:creator>
  <dc:description/>
  <dc:language>en-US</dc:language>
  <cp:lastModifiedBy>william</cp:lastModifiedBy>
  <dcterms:modified xsi:type="dcterms:W3CDTF">2009-04-10T01:48:49Z</dcterms:modified>
  <cp:revision>1</cp:revision>
  <dc:subject/>
  <dc:title>Slide 1</dc:title>
</cp:coreProperties>
</file>